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BFB6-69FA-4168-9F5B-C771DE0E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A9F7-B49F-42ED-80F5-79B3C971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5BA-8ACB-4836-A03B-EB7A2303F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2DD79-A58F-4A9C-B8B2-E356D597E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452F-3758-47EE-88ED-79EB49DAE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05C1-52DE-4302-91BC-013AC1F19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52C79-D766-4551-9C55-B620771B9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AE692-FB3E-415D-8FF3-F07296D1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0C145-5CF9-46B6-85DE-C345FE0D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7161-7E77-4AA4-B962-1B7493A07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7B37-89CD-4BBE-8F6E-1B939BF0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59063-DBBE-4EB7-A724-EB928EAD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593A1-526C-4D68-9DE4-F8C1F6AB82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Chapter 7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 Section 2: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Properties of Rational Expon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1"/>
          <a:srcRect l="6098" t="22136" r="14661" b="7037"/>
          <a:stretch/>
        </p:blipFill>
        <p:spPr>
          <a:xfrm>
            <a:off x="0" y="2743200"/>
            <a:ext cx="6934320" cy="4648320"/>
          </a:xfrm>
          <a:prstGeom prst="rect">
            <a:avLst/>
          </a:prstGeom>
          <a:ln w="0">
            <a:noFill/>
          </a:ln>
        </p:spPr>
      </p:pic>
      <p:sp>
        <p:nvSpPr>
          <p:cNvPr id="43" name="Ink 3"/>
          <p:cNvSpPr/>
          <p:nvPr/>
        </p:nvSpPr>
        <p:spPr>
          <a:xfrm>
            <a:off x="488880" y="3809880"/>
            <a:ext cx="1476360" cy="513000"/>
          </a:xfrm>
          <a:custGeom>
            <a:avLst/>
            <a:gdLst/>
            <a:ahLst/>
            <a:rect l="l" t="t" r="r" b="b"/>
            <a:pathLst>
              <a:path w="4102" h="1423">
                <a:moveTo>
                  <a:pt x="4465" y="10716"/>
                </a:moveTo>
                <a:cubicBezTo>
                  <a:pt x="4171" y="10716"/>
                  <a:pt x="3895" y="10703"/>
                  <a:pt x="3605" y="10649"/>
                </a:cubicBezTo>
                <a:cubicBezTo>
                  <a:pt x="3419" y="10614"/>
                  <a:pt x="3265" y="10583"/>
                  <a:pt x="3076" y="10583"/>
                </a:cubicBezTo>
                <a:cubicBezTo>
                  <a:pt x="2757" y="10583"/>
                  <a:pt x="2414" y="10583"/>
                  <a:pt x="2117" y="10616"/>
                </a:cubicBezTo>
                <a:cubicBezTo>
                  <a:pt x="2041" y="10624"/>
                  <a:pt x="2031" y="10634"/>
                  <a:pt x="1984" y="10649"/>
                </a:cubicBezTo>
                <a:cubicBezTo>
                  <a:pt x="1921" y="10670"/>
                  <a:pt x="1879" y="10707"/>
                  <a:pt x="1819" y="10716"/>
                </a:cubicBezTo>
                <a:cubicBezTo>
                  <a:pt x="1761" y="10725"/>
                  <a:pt x="1706" y="10743"/>
                  <a:pt x="1687" y="10749"/>
                </a:cubicBezTo>
                <a:cubicBezTo>
                  <a:pt x="1641" y="10764"/>
                  <a:pt x="1562" y="10791"/>
                  <a:pt x="1521" y="10815"/>
                </a:cubicBezTo>
                <a:cubicBezTo>
                  <a:pt x="1488" y="10834"/>
                  <a:pt x="1412" y="10861"/>
                  <a:pt x="1389" y="10881"/>
                </a:cubicBezTo>
                <a:cubicBezTo>
                  <a:pt x="1349" y="10916"/>
                  <a:pt x="1365" y="10908"/>
                  <a:pt x="1356" y="10980"/>
                </a:cubicBezTo>
                <a:cubicBezTo>
                  <a:pt x="1339" y="11121"/>
                  <a:pt x="1339" y="11317"/>
                  <a:pt x="1389" y="11443"/>
                </a:cubicBezTo>
                <a:cubicBezTo>
                  <a:pt x="1406" y="11486"/>
                  <a:pt x="1436" y="11534"/>
                  <a:pt x="1455" y="11576"/>
                </a:cubicBezTo>
                <a:cubicBezTo>
                  <a:pt x="1487" y="11647"/>
                  <a:pt x="1489" y="11600"/>
                  <a:pt x="1521" y="11642"/>
                </a:cubicBezTo>
                <a:cubicBezTo>
                  <a:pt x="1547" y="11676"/>
                  <a:pt x="1528" y="11712"/>
                  <a:pt x="1554" y="11741"/>
                </a:cubicBezTo>
                <a:cubicBezTo>
                  <a:pt x="1590" y="11782"/>
                  <a:pt x="1663" y="11854"/>
                  <a:pt x="1687" y="11873"/>
                </a:cubicBezTo>
                <a:cubicBezTo>
                  <a:pt x="1732" y="11908"/>
                  <a:pt x="1772" y="11915"/>
                  <a:pt x="1819" y="11939"/>
                </a:cubicBezTo>
                <a:cubicBezTo>
                  <a:pt x="1839" y="11949"/>
                  <a:pt x="1871" y="11956"/>
                  <a:pt x="1918" y="11972"/>
                </a:cubicBezTo>
                <a:cubicBezTo>
                  <a:pt x="1946" y="11981"/>
                  <a:pt x="2013" y="12003"/>
                  <a:pt x="2084" y="12005"/>
                </a:cubicBezTo>
                <a:cubicBezTo>
                  <a:pt x="2849" y="12030"/>
                  <a:pt x="3898" y="12174"/>
                  <a:pt x="4630" y="11972"/>
                </a:cubicBezTo>
                <a:cubicBezTo>
                  <a:pt x="4681" y="11958"/>
                  <a:pt x="4707" y="11947"/>
                  <a:pt x="4763" y="11939"/>
                </a:cubicBezTo>
                <a:cubicBezTo>
                  <a:pt x="4821" y="11930"/>
                  <a:pt x="4876" y="11912"/>
                  <a:pt x="4895" y="11906"/>
                </a:cubicBezTo>
                <a:cubicBezTo>
                  <a:pt x="4951" y="11887"/>
                  <a:pt x="4974" y="11863"/>
                  <a:pt x="5027" y="11840"/>
                </a:cubicBezTo>
                <a:cubicBezTo>
                  <a:pt x="5085" y="11815"/>
                  <a:pt x="5173" y="11810"/>
                  <a:pt x="5226" y="11774"/>
                </a:cubicBezTo>
                <a:cubicBezTo>
                  <a:pt x="5261" y="11750"/>
                  <a:pt x="5301" y="11729"/>
                  <a:pt x="5325" y="11708"/>
                </a:cubicBezTo>
                <a:cubicBezTo>
                  <a:pt x="5381" y="11658"/>
                  <a:pt x="5360" y="11619"/>
                  <a:pt x="5391" y="11576"/>
                </a:cubicBezTo>
                <a:cubicBezTo>
                  <a:pt x="5409" y="11550"/>
                  <a:pt x="5449" y="11538"/>
                  <a:pt x="5457" y="11476"/>
                </a:cubicBezTo>
                <a:cubicBezTo>
                  <a:pt x="5471" y="11369"/>
                  <a:pt x="5472" y="11206"/>
                  <a:pt x="5424" y="11113"/>
                </a:cubicBezTo>
                <a:cubicBezTo>
                  <a:pt x="5403" y="11073"/>
                  <a:pt x="5366" y="11016"/>
                  <a:pt x="5325" y="10980"/>
                </a:cubicBezTo>
                <a:cubicBezTo>
                  <a:pt x="5290" y="10950"/>
                  <a:pt x="5202" y="10916"/>
                  <a:pt x="5159" y="10881"/>
                </a:cubicBezTo>
                <a:cubicBezTo>
                  <a:pt x="5101" y="10834"/>
                  <a:pt x="5060" y="10803"/>
                  <a:pt x="4994" y="10782"/>
                </a:cubicBezTo>
                <a:cubicBezTo>
                  <a:pt x="4896" y="10750"/>
                  <a:pt x="4829" y="10717"/>
                  <a:pt x="4729" y="10683"/>
                </a:cubicBezTo>
                <a:cubicBezTo>
                  <a:pt x="4654" y="10658"/>
                  <a:pt x="4529" y="10624"/>
                  <a:pt x="4465" y="10616"/>
                </a:cubicBezTo>
                <a:cubicBezTo>
                  <a:pt x="4371" y="10604"/>
                  <a:pt x="4318" y="10592"/>
                  <a:pt x="4233" y="10583"/>
                </a:cubicBezTo>
                <a:cubicBezTo>
                  <a:pt x="4179" y="10577"/>
                  <a:pt x="4122" y="10583"/>
                  <a:pt x="4068" y="10583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rcRect l="5226" t="22136" r="16403" b="44198"/>
          <a:stretch/>
        </p:blipFill>
        <p:spPr>
          <a:xfrm>
            <a:off x="0" y="1219320"/>
            <a:ext cx="6858000" cy="4952880"/>
          </a:xfrm>
          <a:prstGeom prst="rect">
            <a:avLst/>
          </a:prstGeom>
          <a:ln w="0">
            <a:noFill/>
          </a:ln>
        </p:spPr>
      </p:pic>
      <p:sp>
        <p:nvSpPr>
          <p:cNvPr id="45" name="Ink 3"/>
          <p:cNvSpPr/>
          <p:nvPr/>
        </p:nvSpPr>
        <p:spPr>
          <a:xfrm>
            <a:off x="619200" y="2394000"/>
            <a:ext cx="857160" cy="904680"/>
          </a:xfrm>
          <a:custGeom>
            <a:avLst/>
            <a:gdLst/>
            <a:ahLst/>
            <a:rect l="l" t="t" r="r" b="b"/>
            <a:pathLst>
              <a:path w="2382" h="2514">
                <a:moveTo>
                  <a:pt x="2778" y="6780"/>
                </a:moveTo>
                <a:cubicBezTo>
                  <a:pt x="2760" y="6727"/>
                  <a:pt x="2713" y="6752"/>
                  <a:pt x="2679" y="6714"/>
                </a:cubicBezTo>
                <a:cubicBezTo>
                  <a:pt x="2642" y="6672"/>
                  <a:pt x="2567" y="6705"/>
                  <a:pt x="2547" y="6681"/>
                </a:cubicBezTo>
                <a:cubicBezTo>
                  <a:pt x="2517" y="6643"/>
                  <a:pt x="2517" y="6648"/>
                  <a:pt x="2447" y="6648"/>
                </a:cubicBezTo>
                <a:cubicBezTo>
                  <a:pt x="2393" y="6648"/>
                  <a:pt x="2341" y="6656"/>
                  <a:pt x="2315" y="6714"/>
                </a:cubicBezTo>
                <a:cubicBezTo>
                  <a:pt x="2300" y="6749"/>
                  <a:pt x="2305" y="6772"/>
                  <a:pt x="2282" y="6813"/>
                </a:cubicBezTo>
                <a:cubicBezTo>
                  <a:pt x="2247" y="6876"/>
                  <a:pt x="2216" y="6866"/>
                  <a:pt x="2216" y="6945"/>
                </a:cubicBezTo>
                <a:cubicBezTo>
                  <a:pt x="2216" y="7005"/>
                  <a:pt x="2189" y="7024"/>
                  <a:pt x="2183" y="7078"/>
                </a:cubicBezTo>
                <a:cubicBezTo>
                  <a:pt x="2166" y="7228"/>
                  <a:pt x="2183" y="7390"/>
                  <a:pt x="2183" y="7541"/>
                </a:cubicBezTo>
                <a:cubicBezTo>
                  <a:pt x="2241" y="7541"/>
                  <a:pt x="2249" y="7549"/>
                  <a:pt x="2282" y="7574"/>
                </a:cubicBezTo>
                <a:cubicBezTo>
                  <a:pt x="2328" y="7608"/>
                  <a:pt x="2363" y="7656"/>
                  <a:pt x="2414" y="7673"/>
                </a:cubicBezTo>
                <a:cubicBezTo>
                  <a:pt x="2426" y="7677"/>
                  <a:pt x="2543" y="7701"/>
                  <a:pt x="2547" y="7706"/>
                </a:cubicBezTo>
                <a:cubicBezTo>
                  <a:pt x="2577" y="7744"/>
                  <a:pt x="2576" y="7739"/>
                  <a:pt x="2646" y="7739"/>
                </a:cubicBezTo>
                <a:cubicBezTo>
                  <a:pt x="2720" y="7739"/>
                  <a:pt x="2745" y="7722"/>
                  <a:pt x="2778" y="7706"/>
                </a:cubicBezTo>
                <a:cubicBezTo>
                  <a:pt x="2837" y="7677"/>
                  <a:pt x="2844" y="7683"/>
                  <a:pt x="2844" y="7607"/>
                </a:cubicBezTo>
                <a:cubicBezTo>
                  <a:pt x="2844" y="7539"/>
                  <a:pt x="2877" y="7482"/>
                  <a:pt x="2877" y="7408"/>
                </a:cubicBezTo>
                <a:cubicBezTo>
                  <a:pt x="2877" y="7177"/>
                  <a:pt x="2877" y="6945"/>
                  <a:pt x="2877" y="6714"/>
                </a:cubicBezTo>
                <a:cubicBezTo>
                  <a:pt x="2806" y="6714"/>
                  <a:pt x="2828" y="6698"/>
                  <a:pt x="2778" y="6681"/>
                </a:cubicBezTo>
              </a:path>
              <a:path w="2382" h="2514">
                <a:moveTo>
                  <a:pt x="4035" y="6780"/>
                </a:moveTo>
                <a:cubicBezTo>
                  <a:pt x="3973" y="6780"/>
                  <a:pt x="3951" y="6757"/>
                  <a:pt x="3903" y="6747"/>
                </a:cubicBezTo>
                <a:cubicBezTo>
                  <a:pt x="3827" y="6731"/>
                  <a:pt x="3770" y="6736"/>
                  <a:pt x="3704" y="6714"/>
                </a:cubicBezTo>
                <a:cubicBezTo>
                  <a:pt x="3615" y="6684"/>
                  <a:pt x="3480" y="6736"/>
                  <a:pt x="3440" y="6747"/>
                </a:cubicBezTo>
                <a:cubicBezTo>
                  <a:pt x="3422" y="6752"/>
                  <a:pt x="3320" y="6764"/>
                  <a:pt x="3307" y="6780"/>
                </a:cubicBezTo>
                <a:cubicBezTo>
                  <a:pt x="3245" y="6857"/>
                  <a:pt x="3317" y="7241"/>
                  <a:pt x="3340" y="7309"/>
                </a:cubicBezTo>
                <a:cubicBezTo>
                  <a:pt x="3356" y="7356"/>
                  <a:pt x="3363" y="7388"/>
                  <a:pt x="3373" y="7408"/>
                </a:cubicBezTo>
                <a:cubicBezTo>
                  <a:pt x="3392" y="7446"/>
                  <a:pt x="3374" y="7491"/>
                  <a:pt x="3407" y="7508"/>
                </a:cubicBezTo>
                <a:cubicBezTo>
                  <a:pt x="3449" y="7529"/>
                  <a:pt x="3440" y="7590"/>
                  <a:pt x="3473" y="7607"/>
                </a:cubicBezTo>
                <a:cubicBezTo>
                  <a:pt x="3520" y="7630"/>
                  <a:pt x="3510" y="7634"/>
                  <a:pt x="3539" y="7673"/>
                </a:cubicBezTo>
                <a:cubicBezTo>
                  <a:pt x="3573" y="7718"/>
                  <a:pt x="3653" y="7766"/>
                  <a:pt x="3704" y="7772"/>
                </a:cubicBezTo>
                <a:cubicBezTo>
                  <a:pt x="3772" y="7780"/>
                  <a:pt x="3777" y="7752"/>
                  <a:pt x="3803" y="7739"/>
                </a:cubicBezTo>
                <a:cubicBezTo>
                  <a:pt x="3840" y="7720"/>
                  <a:pt x="3887" y="7739"/>
                  <a:pt x="3903" y="7706"/>
                </a:cubicBezTo>
                <a:cubicBezTo>
                  <a:pt x="3918" y="7676"/>
                  <a:pt x="3952" y="7616"/>
                  <a:pt x="3969" y="7607"/>
                </a:cubicBezTo>
                <a:cubicBezTo>
                  <a:pt x="4030" y="7577"/>
                  <a:pt x="3962" y="7540"/>
                  <a:pt x="4002" y="7508"/>
                </a:cubicBezTo>
                <a:cubicBezTo>
                  <a:pt x="4018" y="7495"/>
                  <a:pt x="4053" y="7418"/>
                  <a:pt x="4068" y="7408"/>
                </a:cubicBezTo>
                <a:cubicBezTo>
                  <a:pt x="4109" y="7380"/>
                  <a:pt x="4101" y="7377"/>
                  <a:pt x="4101" y="7309"/>
                </a:cubicBezTo>
                <a:cubicBezTo>
                  <a:pt x="4101" y="7184"/>
                  <a:pt x="4140" y="6988"/>
                  <a:pt x="4068" y="6879"/>
                </a:cubicBezTo>
                <a:cubicBezTo>
                  <a:pt x="4056" y="6861"/>
                  <a:pt x="3973" y="6749"/>
                  <a:pt x="3969" y="6747"/>
                </a:cubicBezTo>
                <a:cubicBezTo>
                  <a:pt x="3933" y="6723"/>
                  <a:pt x="3930" y="6714"/>
                  <a:pt x="3870" y="6714"/>
                </a:cubicBezTo>
              </a:path>
              <a:path w="2382" h="2514">
                <a:moveTo>
                  <a:pt x="2051" y="8467"/>
                </a:moveTo>
                <a:cubicBezTo>
                  <a:pt x="1992" y="8455"/>
                  <a:pt x="1947" y="8434"/>
                  <a:pt x="1885" y="8434"/>
                </a:cubicBezTo>
                <a:cubicBezTo>
                  <a:pt x="1830" y="8434"/>
                  <a:pt x="1775" y="8434"/>
                  <a:pt x="1720" y="8434"/>
                </a:cubicBezTo>
                <a:cubicBezTo>
                  <a:pt x="1720" y="8504"/>
                  <a:pt x="1749" y="8541"/>
                  <a:pt x="1753" y="8599"/>
                </a:cubicBezTo>
                <a:cubicBezTo>
                  <a:pt x="1759" y="8686"/>
                  <a:pt x="1753" y="8777"/>
                  <a:pt x="1753" y="8864"/>
                </a:cubicBezTo>
                <a:cubicBezTo>
                  <a:pt x="1829" y="8864"/>
                  <a:pt x="1851" y="8847"/>
                  <a:pt x="1885" y="8830"/>
                </a:cubicBezTo>
                <a:cubicBezTo>
                  <a:pt x="1937" y="8803"/>
                  <a:pt x="2049" y="8832"/>
                  <a:pt x="2084" y="8864"/>
                </a:cubicBezTo>
                <a:cubicBezTo>
                  <a:pt x="2129" y="8905"/>
                  <a:pt x="2117" y="8939"/>
                  <a:pt x="2117" y="8996"/>
                </a:cubicBezTo>
                <a:cubicBezTo>
                  <a:pt x="2117" y="9029"/>
                  <a:pt x="2117" y="9062"/>
                  <a:pt x="2117" y="9095"/>
                </a:cubicBezTo>
                <a:cubicBezTo>
                  <a:pt x="2042" y="9095"/>
                  <a:pt x="2072" y="9121"/>
                  <a:pt x="2017" y="9128"/>
                </a:cubicBezTo>
                <a:cubicBezTo>
                  <a:pt x="1949" y="9136"/>
                  <a:pt x="1968" y="9155"/>
                  <a:pt x="1918" y="9161"/>
                </a:cubicBezTo>
                <a:cubicBezTo>
                  <a:pt x="1897" y="9164"/>
                  <a:pt x="1734" y="9161"/>
                  <a:pt x="1819" y="9161"/>
                </a:cubicBezTo>
              </a:path>
              <a:path w="2382" h="2514">
                <a:moveTo>
                  <a:pt x="2084" y="8136"/>
                </a:moveTo>
                <a:cubicBezTo>
                  <a:pt x="2108" y="8065"/>
                  <a:pt x="2126" y="8135"/>
                  <a:pt x="2183" y="8103"/>
                </a:cubicBezTo>
                <a:cubicBezTo>
                  <a:pt x="2213" y="8073"/>
                  <a:pt x="2219" y="8062"/>
                  <a:pt x="2249" y="8070"/>
                </a:cubicBezTo>
                <a:cubicBezTo>
                  <a:pt x="2249" y="8191"/>
                  <a:pt x="2226" y="8138"/>
                  <a:pt x="2183" y="8202"/>
                </a:cubicBezTo>
                <a:cubicBezTo>
                  <a:pt x="2173" y="8217"/>
                  <a:pt x="2183" y="8283"/>
                  <a:pt x="2183" y="8301"/>
                </a:cubicBezTo>
                <a:cubicBezTo>
                  <a:pt x="2272" y="8301"/>
                  <a:pt x="2336" y="8311"/>
                  <a:pt x="2381" y="8334"/>
                </a:cubicBezTo>
                <a:cubicBezTo>
                  <a:pt x="2414" y="8334"/>
                  <a:pt x="2425" y="8334"/>
                  <a:pt x="2414" y="8367"/>
                </a:cubicBezTo>
                <a:cubicBezTo>
                  <a:pt x="2308" y="8367"/>
                  <a:pt x="2395" y="8396"/>
                  <a:pt x="2348" y="8434"/>
                </a:cubicBezTo>
                <a:cubicBezTo>
                  <a:pt x="2329" y="8450"/>
                  <a:pt x="2267" y="8461"/>
                  <a:pt x="2249" y="8467"/>
                </a:cubicBezTo>
              </a:path>
              <a:path w="2382" h="2514">
                <a:moveTo>
                  <a:pt x="2547" y="8103"/>
                </a:moveTo>
                <a:cubicBezTo>
                  <a:pt x="2547" y="8279"/>
                  <a:pt x="2547" y="8742"/>
                  <a:pt x="2547" y="8566"/>
                </a:cubicBezTo>
              </a:path>
              <a:path w="2382" h="2514">
                <a:moveTo>
                  <a:pt x="2712" y="8169"/>
                </a:moveTo>
                <a:cubicBezTo>
                  <a:pt x="2723" y="8169"/>
                  <a:pt x="2734" y="8169"/>
                  <a:pt x="2745" y="8169"/>
                </a:cubicBezTo>
                <a:cubicBezTo>
                  <a:pt x="2745" y="8257"/>
                  <a:pt x="2745" y="8346"/>
                  <a:pt x="2745" y="8434"/>
                </a:cubicBezTo>
                <a:cubicBezTo>
                  <a:pt x="2823" y="8434"/>
                  <a:pt x="2830" y="8417"/>
                  <a:pt x="2877" y="8401"/>
                </a:cubicBezTo>
              </a:path>
              <a:path w="2382" h="2514">
                <a:moveTo>
                  <a:pt x="2877" y="8301"/>
                </a:moveTo>
                <a:cubicBezTo>
                  <a:pt x="2866" y="8301"/>
                  <a:pt x="2855" y="8301"/>
                  <a:pt x="2844" y="8301"/>
                </a:cubicBezTo>
                <a:cubicBezTo>
                  <a:pt x="2844" y="8376"/>
                  <a:pt x="2831" y="8406"/>
                  <a:pt x="2811" y="8467"/>
                </a:cubicBezTo>
                <a:cubicBezTo>
                  <a:pt x="2793" y="8520"/>
                  <a:pt x="2811" y="8609"/>
                  <a:pt x="2811" y="866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Ink 4"/>
          <p:cNvSpPr/>
          <p:nvPr/>
        </p:nvSpPr>
        <p:spPr>
          <a:xfrm>
            <a:off x="1762200" y="2487600"/>
            <a:ext cx="750960" cy="573120"/>
          </a:xfrm>
          <a:custGeom>
            <a:avLst/>
            <a:gdLst/>
            <a:ahLst/>
            <a:rect l="l" t="t" r="r" b="b"/>
            <a:pathLst>
              <a:path w="2084" h="1589">
                <a:moveTo>
                  <a:pt x="5391" y="6912"/>
                </a:moveTo>
                <a:cubicBezTo>
                  <a:pt x="5391" y="7022"/>
                  <a:pt x="5391" y="7133"/>
                  <a:pt x="5391" y="7243"/>
                </a:cubicBezTo>
                <a:cubicBezTo>
                  <a:pt x="5358" y="7243"/>
                  <a:pt x="5347" y="7243"/>
                  <a:pt x="5325" y="7243"/>
                </a:cubicBezTo>
              </a:path>
              <a:path w="2084" h="1589">
                <a:moveTo>
                  <a:pt x="5159" y="7508"/>
                </a:moveTo>
                <a:cubicBezTo>
                  <a:pt x="5336" y="7508"/>
                  <a:pt x="5512" y="7508"/>
                  <a:pt x="5689" y="7508"/>
                </a:cubicBezTo>
              </a:path>
              <a:path w="2084" h="1589">
                <a:moveTo>
                  <a:pt x="5226" y="7904"/>
                </a:moveTo>
                <a:cubicBezTo>
                  <a:pt x="5238" y="7868"/>
                  <a:pt x="5250" y="7843"/>
                  <a:pt x="5292" y="7838"/>
                </a:cubicBezTo>
                <a:cubicBezTo>
                  <a:pt x="5334" y="7833"/>
                  <a:pt x="5381" y="7838"/>
                  <a:pt x="5424" y="7838"/>
                </a:cubicBezTo>
                <a:cubicBezTo>
                  <a:pt x="5424" y="7899"/>
                  <a:pt x="5432" y="7924"/>
                  <a:pt x="5391" y="7971"/>
                </a:cubicBezTo>
                <a:cubicBezTo>
                  <a:pt x="5361" y="8005"/>
                  <a:pt x="5310" y="8034"/>
                  <a:pt x="5292" y="8070"/>
                </a:cubicBezTo>
                <a:cubicBezTo>
                  <a:pt x="5277" y="8100"/>
                  <a:pt x="5227" y="8132"/>
                  <a:pt x="5192" y="8136"/>
                </a:cubicBezTo>
                <a:cubicBezTo>
                  <a:pt x="5160" y="8140"/>
                  <a:pt x="5125" y="8136"/>
                  <a:pt x="5093" y="8136"/>
                </a:cubicBezTo>
                <a:cubicBezTo>
                  <a:pt x="5214" y="8136"/>
                  <a:pt x="5336" y="8136"/>
                  <a:pt x="5457" y="8136"/>
                </a:cubicBezTo>
              </a:path>
              <a:path w="2084" h="1589">
                <a:moveTo>
                  <a:pt x="6152" y="7309"/>
                </a:moveTo>
                <a:cubicBezTo>
                  <a:pt x="6152" y="7403"/>
                  <a:pt x="6145" y="7463"/>
                  <a:pt x="6118" y="7541"/>
                </a:cubicBezTo>
                <a:cubicBezTo>
                  <a:pt x="6118" y="7552"/>
                  <a:pt x="6118" y="7563"/>
                  <a:pt x="6118" y="7574"/>
                </a:cubicBezTo>
                <a:cubicBezTo>
                  <a:pt x="6068" y="7591"/>
                  <a:pt x="6085" y="7614"/>
                  <a:pt x="6085" y="7673"/>
                </a:cubicBezTo>
                <a:cubicBezTo>
                  <a:pt x="6044" y="7700"/>
                  <a:pt x="6052" y="7707"/>
                  <a:pt x="6052" y="7772"/>
                </a:cubicBezTo>
              </a:path>
              <a:path w="2084" h="1589">
                <a:moveTo>
                  <a:pt x="5920" y="7640"/>
                </a:moveTo>
                <a:cubicBezTo>
                  <a:pt x="5997" y="7640"/>
                  <a:pt x="6280" y="7681"/>
                  <a:pt x="6317" y="7607"/>
                </a:cubicBezTo>
                <a:cubicBezTo>
                  <a:pt x="6317" y="7596"/>
                  <a:pt x="6317" y="7585"/>
                  <a:pt x="6317" y="7574"/>
                </a:cubicBezTo>
              </a:path>
              <a:path w="2084" h="1589">
                <a:moveTo>
                  <a:pt x="6615" y="7144"/>
                </a:moveTo>
                <a:cubicBezTo>
                  <a:pt x="6615" y="7265"/>
                  <a:pt x="6615" y="7387"/>
                  <a:pt x="6615" y="7508"/>
                </a:cubicBezTo>
              </a:path>
              <a:path w="2084" h="1589">
                <a:moveTo>
                  <a:pt x="6548" y="7772"/>
                </a:moveTo>
                <a:cubicBezTo>
                  <a:pt x="6679" y="7772"/>
                  <a:pt x="6799" y="7773"/>
                  <a:pt x="6912" y="7739"/>
                </a:cubicBezTo>
                <a:cubicBezTo>
                  <a:pt x="6945" y="7739"/>
                  <a:pt x="6956" y="7739"/>
                  <a:pt x="6978" y="7739"/>
                </a:cubicBezTo>
              </a:path>
              <a:path w="2084" h="1589">
                <a:moveTo>
                  <a:pt x="6582" y="8004"/>
                </a:moveTo>
                <a:cubicBezTo>
                  <a:pt x="6582" y="8103"/>
                  <a:pt x="6582" y="8202"/>
                  <a:pt x="6582" y="8301"/>
                </a:cubicBezTo>
                <a:cubicBezTo>
                  <a:pt x="6645" y="8285"/>
                  <a:pt x="6657" y="8227"/>
                  <a:pt x="6714" y="8202"/>
                </a:cubicBezTo>
                <a:cubicBezTo>
                  <a:pt x="6746" y="8188"/>
                  <a:pt x="6814" y="8173"/>
                  <a:pt x="6846" y="8169"/>
                </a:cubicBezTo>
                <a:cubicBezTo>
                  <a:pt x="6888" y="8164"/>
                  <a:pt x="6900" y="8138"/>
                  <a:pt x="6912" y="8103"/>
                </a:cubicBezTo>
              </a:path>
              <a:path w="2084" h="1589">
                <a:moveTo>
                  <a:pt x="6846" y="8004"/>
                </a:moveTo>
                <a:cubicBezTo>
                  <a:pt x="6804" y="8060"/>
                  <a:pt x="6813" y="8094"/>
                  <a:pt x="6813" y="8169"/>
                </a:cubicBezTo>
                <a:cubicBezTo>
                  <a:pt x="6813" y="8213"/>
                  <a:pt x="6813" y="8235"/>
                  <a:pt x="6813" y="8268"/>
                </a:cubicBezTo>
                <a:cubicBezTo>
                  <a:pt x="6763" y="8285"/>
                  <a:pt x="6780" y="8308"/>
                  <a:pt x="6780" y="8367"/>
                </a:cubicBezTo>
                <a:cubicBezTo>
                  <a:pt x="6780" y="8389"/>
                  <a:pt x="6780" y="8412"/>
                  <a:pt x="6780" y="8434"/>
                </a:cubicBezTo>
                <a:cubicBezTo>
                  <a:pt x="6733" y="8450"/>
                  <a:pt x="6747" y="8444"/>
                  <a:pt x="6747" y="8500"/>
                </a:cubicBezTo>
                <a:cubicBezTo>
                  <a:pt x="6729" y="8447"/>
                  <a:pt x="6732" y="8487"/>
                  <a:pt x="6714" y="8434"/>
                </a:cubicBezTo>
              </a:path>
              <a:path w="2084" h="1589">
                <a:moveTo>
                  <a:pt x="4961" y="7177"/>
                </a:moveTo>
                <a:cubicBezTo>
                  <a:pt x="4961" y="7103"/>
                  <a:pt x="4987" y="7132"/>
                  <a:pt x="4994" y="7078"/>
                </a:cubicBezTo>
                <a:cubicBezTo>
                  <a:pt x="5001" y="7024"/>
                  <a:pt x="5041" y="7045"/>
                  <a:pt x="5093" y="7045"/>
                </a:cubicBezTo>
                <a:cubicBezTo>
                  <a:pt x="5104" y="7045"/>
                  <a:pt x="5115" y="7045"/>
                  <a:pt x="5126" y="7045"/>
                </a:cubicBezTo>
                <a:cubicBezTo>
                  <a:pt x="5126" y="7138"/>
                  <a:pt x="5119" y="7199"/>
                  <a:pt x="5093" y="7276"/>
                </a:cubicBezTo>
                <a:cubicBezTo>
                  <a:pt x="5076" y="7326"/>
                  <a:pt x="5064" y="7314"/>
                  <a:pt x="5027" y="7342"/>
                </a:cubicBezTo>
                <a:cubicBezTo>
                  <a:pt x="4988" y="7371"/>
                  <a:pt x="4846" y="7375"/>
                  <a:pt x="4895" y="7375"/>
                </a:cubicBezTo>
                <a:cubicBezTo>
                  <a:pt x="4964" y="7375"/>
                  <a:pt x="5074" y="7352"/>
                  <a:pt x="5093" y="7408"/>
                </a:cubicBezTo>
              </a:path>
              <a:path w="2084" h="1589">
                <a:moveTo>
                  <a:pt x="4961" y="7838"/>
                </a:moveTo>
                <a:cubicBezTo>
                  <a:pt x="4961" y="7894"/>
                  <a:pt x="4991" y="7926"/>
                  <a:pt x="4994" y="7938"/>
                </a:cubicBezTo>
                <a:cubicBezTo>
                  <a:pt x="4994" y="7993"/>
                  <a:pt x="4994" y="8004"/>
                  <a:pt x="4994" y="8037"/>
                </a:cubicBezTo>
                <a:cubicBezTo>
                  <a:pt x="5090" y="8037"/>
                  <a:pt x="5020" y="8007"/>
                  <a:pt x="5093" y="7971"/>
                </a:cubicBezTo>
                <a:cubicBezTo>
                  <a:pt x="5136" y="7949"/>
                  <a:pt x="5126" y="7966"/>
                  <a:pt x="5126" y="7904"/>
                </a:cubicBezTo>
              </a:path>
              <a:path w="2084" h="1589">
                <a:moveTo>
                  <a:pt x="5093" y="7838"/>
                </a:moveTo>
                <a:cubicBezTo>
                  <a:pt x="5093" y="7959"/>
                  <a:pt x="5097" y="8064"/>
                  <a:pt x="5126" y="8169"/>
                </a:cubicBezTo>
                <a:cubicBezTo>
                  <a:pt x="5131" y="8187"/>
                  <a:pt x="5126" y="8354"/>
                  <a:pt x="5126" y="8268"/>
                </a:cubicBezTo>
                <a:cubicBezTo>
                  <a:pt x="5126" y="8235"/>
                  <a:pt x="5126" y="8224"/>
                  <a:pt x="5093" y="823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Ink 5"/>
          <p:cNvSpPr/>
          <p:nvPr/>
        </p:nvSpPr>
        <p:spPr>
          <a:xfrm>
            <a:off x="3191040" y="2928960"/>
            <a:ext cx="988920" cy="452520"/>
          </a:xfrm>
          <a:custGeom>
            <a:avLst/>
            <a:gdLst/>
            <a:ahLst/>
            <a:rect l="l" t="t" r="r" b="b"/>
            <a:pathLst>
              <a:path w="2746" h="1258">
                <a:moveTo>
                  <a:pt x="9426" y="8533"/>
                </a:moveTo>
                <a:cubicBezTo>
                  <a:pt x="9406" y="8454"/>
                  <a:pt x="9358" y="8496"/>
                  <a:pt x="9327" y="8434"/>
                </a:cubicBezTo>
                <a:cubicBezTo>
                  <a:pt x="9304" y="8388"/>
                  <a:pt x="9291" y="8401"/>
                  <a:pt x="9227" y="8401"/>
                </a:cubicBezTo>
                <a:cubicBezTo>
                  <a:pt x="9130" y="8401"/>
                  <a:pt x="9048" y="8408"/>
                  <a:pt x="8996" y="8434"/>
                </a:cubicBezTo>
                <a:cubicBezTo>
                  <a:pt x="8961" y="8451"/>
                  <a:pt x="8936" y="8454"/>
                  <a:pt x="8930" y="8500"/>
                </a:cubicBezTo>
                <a:cubicBezTo>
                  <a:pt x="8924" y="8546"/>
                  <a:pt x="8870" y="8544"/>
                  <a:pt x="8864" y="8566"/>
                </a:cubicBezTo>
                <a:cubicBezTo>
                  <a:pt x="8852" y="8609"/>
                  <a:pt x="8849" y="8740"/>
                  <a:pt x="8897" y="8764"/>
                </a:cubicBezTo>
                <a:cubicBezTo>
                  <a:pt x="8925" y="8778"/>
                  <a:pt x="9000" y="8794"/>
                  <a:pt x="9029" y="8797"/>
                </a:cubicBezTo>
                <a:cubicBezTo>
                  <a:pt x="9093" y="8804"/>
                  <a:pt x="9100" y="8816"/>
                  <a:pt x="9128" y="8830"/>
                </a:cubicBezTo>
                <a:cubicBezTo>
                  <a:pt x="9164" y="8848"/>
                  <a:pt x="9174" y="8879"/>
                  <a:pt x="9227" y="8897"/>
                </a:cubicBezTo>
                <a:cubicBezTo>
                  <a:pt x="9271" y="8912"/>
                  <a:pt x="9267" y="8950"/>
                  <a:pt x="9293" y="8963"/>
                </a:cubicBezTo>
                <a:cubicBezTo>
                  <a:pt x="9328" y="8980"/>
                  <a:pt x="9354" y="8983"/>
                  <a:pt x="9360" y="9029"/>
                </a:cubicBezTo>
                <a:cubicBezTo>
                  <a:pt x="9369" y="9100"/>
                  <a:pt x="9422" y="9074"/>
                  <a:pt x="9426" y="9128"/>
                </a:cubicBezTo>
                <a:cubicBezTo>
                  <a:pt x="9432" y="9201"/>
                  <a:pt x="9452" y="9231"/>
                  <a:pt x="9459" y="9293"/>
                </a:cubicBezTo>
                <a:cubicBezTo>
                  <a:pt x="9459" y="9327"/>
                  <a:pt x="9459" y="9338"/>
                  <a:pt x="9459" y="9360"/>
                </a:cubicBezTo>
                <a:cubicBezTo>
                  <a:pt x="9398" y="9360"/>
                  <a:pt x="9381" y="9387"/>
                  <a:pt x="9327" y="9393"/>
                </a:cubicBezTo>
                <a:cubicBezTo>
                  <a:pt x="9276" y="9399"/>
                  <a:pt x="9155" y="9413"/>
                  <a:pt x="9128" y="9360"/>
                </a:cubicBezTo>
                <a:cubicBezTo>
                  <a:pt x="9107" y="9317"/>
                  <a:pt x="9095" y="9326"/>
                  <a:pt x="9095" y="9260"/>
                </a:cubicBezTo>
                <a:cubicBezTo>
                  <a:pt x="9095" y="9155"/>
                  <a:pt x="9099" y="9055"/>
                  <a:pt x="9128" y="8996"/>
                </a:cubicBezTo>
                <a:cubicBezTo>
                  <a:pt x="9143" y="8967"/>
                  <a:pt x="9157" y="8906"/>
                  <a:pt x="9161" y="8897"/>
                </a:cubicBezTo>
                <a:cubicBezTo>
                  <a:pt x="9177" y="8865"/>
                  <a:pt x="9217" y="8850"/>
                  <a:pt x="9227" y="8830"/>
                </a:cubicBezTo>
                <a:cubicBezTo>
                  <a:pt x="9241" y="8802"/>
                  <a:pt x="9257" y="8727"/>
                  <a:pt x="9260" y="8698"/>
                </a:cubicBezTo>
                <a:cubicBezTo>
                  <a:pt x="9268" y="8629"/>
                  <a:pt x="9287" y="8650"/>
                  <a:pt x="9293" y="8599"/>
                </a:cubicBezTo>
                <a:cubicBezTo>
                  <a:pt x="9293" y="8566"/>
                  <a:pt x="9293" y="8555"/>
                  <a:pt x="9293" y="8533"/>
                </a:cubicBezTo>
              </a:path>
              <a:path w="2746" h="1258">
                <a:moveTo>
                  <a:pt x="9657" y="8202"/>
                </a:moveTo>
                <a:cubicBezTo>
                  <a:pt x="9657" y="8378"/>
                  <a:pt x="9657" y="8555"/>
                  <a:pt x="9657" y="8731"/>
                </a:cubicBezTo>
              </a:path>
              <a:path w="2746" h="1258">
                <a:moveTo>
                  <a:pt x="10220" y="8963"/>
                </a:moveTo>
                <a:cubicBezTo>
                  <a:pt x="10166" y="8945"/>
                  <a:pt x="10206" y="8948"/>
                  <a:pt x="10153" y="8930"/>
                </a:cubicBezTo>
                <a:cubicBezTo>
                  <a:pt x="10139" y="8972"/>
                  <a:pt x="10129" y="8982"/>
                  <a:pt x="10087" y="8996"/>
                </a:cubicBezTo>
                <a:cubicBezTo>
                  <a:pt x="10078" y="8969"/>
                  <a:pt x="10054" y="8906"/>
                  <a:pt x="10054" y="8963"/>
                </a:cubicBezTo>
              </a:path>
              <a:path w="2746" h="1258">
                <a:moveTo>
                  <a:pt x="10815" y="8599"/>
                </a:moveTo>
                <a:cubicBezTo>
                  <a:pt x="10798" y="8549"/>
                  <a:pt x="10775" y="8566"/>
                  <a:pt x="10716" y="8566"/>
                </a:cubicBezTo>
                <a:cubicBezTo>
                  <a:pt x="10672" y="8566"/>
                  <a:pt x="10627" y="8566"/>
                  <a:pt x="10583" y="8566"/>
                </a:cubicBezTo>
                <a:cubicBezTo>
                  <a:pt x="10583" y="8636"/>
                  <a:pt x="10556" y="8659"/>
                  <a:pt x="10550" y="8731"/>
                </a:cubicBezTo>
                <a:cubicBezTo>
                  <a:pt x="10546" y="8775"/>
                  <a:pt x="10550" y="8820"/>
                  <a:pt x="10550" y="8864"/>
                </a:cubicBezTo>
                <a:cubicBezTo>
                  <a:pt x="10621" y="8864"/>
                  <a:pt x="10656" y="8890"/>
                  <a:pt x="10716" y="8897"/>
                </a:cubicBezTo>
                <a:cubicBezTo>
                  <a:pt x="10766" y="8903"/>
                  <a:pt x="10759" y="8932"/>
                  <a:pt x="10782" y="8963"/>
                </a:cubicBezTo>
                <a:cubicBezTo>
                  <a:pt x="10813" y="9004"/>
                  <a:pt x="10842" y="9043"/>
                  <a:pt x="10848" y="9095"/>
                </a:cubicBezTo>
                <a:cubicBezTo>
                  <a:pt x="10858" y="9186"/>
                  <a:pt x="10814" y="9178"/>
                  <a:pt x="10749" y="9227"/>
                </a:cubicBezTo>
                <a:cubicBezTo>
                  <a:pt x="10689" y="9272"/>
                  <a:pt x="10661" y="9350"/>
                  <a:pt x="10583" y="9360"/>
                </a:cubicBezTo>
                <a:cubicBezTo>
                  <a:pt x="10542" y="9365"/>
                  <a:pt x="10493" y="9360"/>
                  <a:pt x="10451" y="9360"/>
                </a:cubicBezTo>
              </a:path>
              <a:path w="2746" h="1258">
                <a:moveTo>
                  <a:pt x="10848" y="8367"/>
                </a:moveTo>
                <a:cubicBezTo>
                  <a:pt x="10860" y="8331"/>
                  <a:pt x="10872" y="8306"/>
                  <a:pt x="10914" y="8301"/>
                </a:cubicBezTo>
                <a:cubicBezTo>
                  <a:pt x="10974" y="8294"/>
                  <a:pt x="10962" y="8306"/>
                  <a:pt x="11013" y="8268"/>
                </a:cubicBezTo>
                <a:cubicBezTo>
                  <a:pt x="11013" y="8362"/>
                  <a:pt x="11004" y="8453"/>
                  <a:pt x="10980" y="8500"/>
                </a:cubicBezTo>
                <a:cubicBezTo>
                  <a:pt x="10970" y="8519"/>
                  <a:pt x="10980" y="8577"/>
                  <a:pt x="10980" y="8599"/>
                </a:cubicBezTo>
                <a:cubicBezTo>
                  <a:pt x="11035" y="8599"/>
                  <a:pt x="11091" y="8599"/>
                  <a:pt x="11146" y="8599"/>
                </a:cubicBezTo>
              </a:path>
              <a:path w="2746" h="1258">
                <a:moveTo>
                  <a:pt x="11344" y="8136"/>
                </a:moveTo>
                <a:cubicBezTo>
                  <a:pt x="11344" y="8202"/>
                  <a:pt x="11337" y="8288"/>
                  <a:pt x="11278" y="8334"/>
                </a:cubicBezTo>
                <a:cubicBezTo>
                  <a:pt x="11223" y="8377"/>
                  <a:pt x="11223" y="8382"/>
                  <a:pt x="11212" y="8467"/>
                </a:cubicBezTo>
                <a:cubicBezTo>
                  <a:pt x="11162" y="8484"/>
                  <a:pt x="11179" y="8507"/>
                  <a:pt x="11179" y="8566"/>
                </a:cubicBezTo>
                <a:cubicBezTo>
                  <a:pt x="11179" y="8577"/>
                  <a:pt x="11179" y="8588"/>
                  <a:pt x="11179" y="8599"/>
                </a:cubicBezTo>
                <a:cubicBezTo>
                  <a:pt x="11129" y="8616"/>
                  <a:pt x="11146" y="8639"/>
                  <a:pt x="11146" y="8698"/>
                </a:cubicBezTo>
                <a:cubicBezTo>
                  <a:pt x="11146" y="8709"/>
                  <a:pt x="11146" y="8720"/>
                  <a:pt x="11146" y="8731"/>
                </a:cubicBezTo>
                <a:cubicBezTo>
                  <a:pt x="11099" y="8747"/>
                  <a:pt x="11117" y="8781"/>
                  <a:pt x="11079" y="8830"/>
                </a:cubicBezTo>
                <a:cubicBezTo>
                  <a:pt x="11079" y="8797"/>
                  <a:pt x="11079" y="8786"/>
                  <a:pt x="11079" y="8764"/>
                </a:cubicBezTo>
              </a:path>
              <a:path w="2746" h="1258">
                <a:moveTo>
                  <a:pt x="11410" y="8533"/>
                </a:moveTo>
                <a:cubicBezTo>
                  <a:pt x="11427" y="8483"/>
                  <a:pt x="11450" y="8500"/>
                  <a:pt x="11509" y="8500"/>
                </a:cubicBezTo>
                <a:cubicBezTo>
                  <a:pt x="11542" y="8500"/>
                  <a:pt x="11576" y="8500"/>
                  <a:pt x="11609" y="8500"/>
                </a:cubicBezTo>
                <a:cubicBezTo>
                  <a:pt x="11598" y="8543"/>
                  <a:pt x="11557" y="8611"/>
                  <a:pt x="11509" y="8632"/>
                </a:cubicBezTo>
                <a:cubicBezTo>
                  <a:pt x="11468" y="8650"/>
                  <a:pt x="11458" y="8653"/>
                  <a:pt x="11443" y="8698"/>
                </a:cubicBezTo>
                <a:cubicBezTo>
                  <a:pt x="11512" y="8698"/>
                  <a:pt x="11509" y="8695"/>
                  <a:pt x="11509" y="8764"/>
                </a:cubicBezTo>
                <a:cubicBezTo>
                  <a:pt x="11509" y="8805"/>
                  <a:pt x="11454" y="8825"/>
                  <a:pt x="11410" y="8830"/>
                </a:cubicBezTo>
                <a:cubicBezTo>
                  <a:pt x="11377" y="8830"/>
                  <a:pt x="11366" y="8830"/>
                  <a:pt x="11344" y="883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Ink 6"/>
          <p:cNvSpPr/>
          <p:nvPr/>
        </p:nvSpPr>
        <p:spPr>
          <a:xfrm>
            <a:off x="3321000" y="3452760"/>
            <a:ext cx="763560" cy="298440"/>
          </a:xfrm>
          <a:custGeom>
            <a:avLst/>
            <a:gdLst/>
            <a:ahLst/>
            <a:rect l="l" t="t" r="r" b="b"/>
            <a:pathLst>
              <a:path w="2118" h="828">
                <a:moveTo>
                  <a:pt x="9657" y="9823"/>
                </a:moveTo>
                <a:cubicBezTo>
                  <a:pt x="9594" y="9807"/>
                  <a:pt x="9607" y="9763"/>
                  <a:pt x="9558" y="9757"/>
                </a:cubicBezTo>
                <a:cubicBezTo>
                  <a:pt x="9492" y="9749"/>
                  <a:pt x="9291" y="9729"/>
                  <a:pt x="9260" y="9790"/>
                </a:cubicBezTo>
                <a:cubicBezTo>
                  <a:pt x="9237" y="9836"/>
                  <a:pt x="9227" y="9900"/>
                  <a:pt x="9227" y="9955"/>
                </a:cubicBezTo>
                <a:cubicBezTo>
                  <a:pt x="9227" y="10026"/>
                  <a:pt x="9305" y="10058"/>
                  <a:pt x="9360" y="10087"/>
                </a:cubicBezTo>
                <a:cubicBezTo>
                  <a:pt x="9415" y="10116"/>
                  <a:pt x="9472" y="10168"/>
                  <a:pt x="9525" y="10186"/>
                </a:cubicBezTo>
                <a:cubicBezTo>
                  <a:pt x="9599" y="10211"/>
                  <a:pt x="9581" y="10188"/>
                  <a:pt x="9624" y="10253"/>
                </a:cubicBezTo>
                <a:cubicBezTo>
                  <a:pt x="9656" y="10302"/>
                  <a:pt x="9657" y="10293"/>
                  <a:pt x="9657" y="10352"/>
                </a:cubicBezTo>
                <a:cubicBezTo>
                  <a:pt x="9569" y="10352"/>
                  <a:pt x="9481" y="10352"/>
                  <a:pt x="9393" y="10352"/>
                </a:cubicBezTo>
                <a:cubicBezTo>
                  <a:pt x="9393" y="10291"/>
                  <a:pt x="9366" y="10274"/>
                  <a:pt x="9360" y="10220"/>
                </a:cubicBezTo>
                <a:cubicBezTo>
                  <a:pt x="9354" y="10164"/>
                  <a:pt x="9371" y="10149"/>
                  <a:pt x="9393" y="10120"/>
                </a:cubicBezTo>
                <a:cubicBezTo>
                  <a:pt x="9439" y="10058"/>
                  <a:pt x="9425" y="10082"/>
                  <a:pt x="9459" y="10021"/>
                </a:cubicBezTo>
                <a:cubicBezTo>
                  <a:pt x="9489" y="9966"/>
                  <a:pt x="9492" y="9956"/>
                  <a:pt x="9492" y="9889"/>
                </a:cubicBezTo>
                <a:cubicBezTo>
                  <a:pt x="9492" y="9837"/>
                  <a:pt x="9525" y="9817"/>
                  <a:pt x="9525" y="9757"/>
                </a:cubicBezTo>
                <a:cubicBezTo>
                  <a:pt x="9525" y="9746"/>
                  <a:pt x="9525" y="9734"/>
                  <a:pt x="9525" y="9723"/>
                </a:cubicBezTo>
              </a:path>
              <a:path w="2118" h="828">
                <a:moveTo>
                  <a:pt x="9889" y="10186"/>
                </a:moveTo>
                <a:cubicBezTo>
                  <a:pt x="9889" y="10142"/>
                  <a:pt x="9889" y="10098"/>
                  <a:pt x="9889" y="10054"/>
                </a:cubicBezTo>
              </a:path>
              <a:path w="2118" h="828">
                <a:moveTo>
                  <a:pt x="10451" y="9889"/>
                </a:moveTo>
                <a:cubicBezTo>
                  <a:pt x="10341" y="9889"/>
                  <a:pt x="10230" y="9889"/>
                  <a:pt x="10120" y="9889"/>
                </a:cubicBezTo>
                <a:cubicBezTo>
                  <a:pt x="10120" y="9966"/>
                  <a:pt x="10120" y="10043"/>
                  <a:pt x="10120" y="10120"/>
                </a:cubicBezTo>
                <a:cubicBezTo>
                  <a:pt x="10234" y="10120"/>
                  <a:pt x="10352" y="10120"/>
                  <a:pt x="10418" y="10153"/>
                </a:cubicBezTo>
                <a:cubicBezTo>
                  <a:pt x="10464" y="10176"/>
                  <a:pt x="10451" y="10189"/>
                  <a:pt x="10451" y="10253"/>
                </a:cubicBezTo>
                <a:cubicBezTo>
                  <a:pt x="10451" y="10275"/>
                  <a:pt x="10451" y="10297"/>
                  <a:pt x="10451" y="10319"/>
                </a:cubicBezTo>
                <a:cubicBezTo>
                  <a:pt x="10364" y="10348"/>
                  <a:pt x="10412" y="10408"/>
                  <a:pt x="10319" y="10418"/>
                </a:cubicBezTo>
                <a:cubicBezTo>
                  <a:pt x="10286" y="10418"/>
                  <a:pt x="10275" y="10418"/>
                  <a:pt x="10286" y="10385"/>
                </a:cubicBezTo>
              </a:path>
              <a:path w="2118" h="828">
                <a:moveTo>
                  <a:pt x="10616" y="9591"/>
                </a:moveTo>
                <a:cubicBezTo>
                  <a:pt x="10651" y="9600"/>
                  <a:pt x="10730" y="9619"/>
                  <a:pt x="10749" y="9657"/>
                </a:cubicBezTo>
                <a:cubicBezTo>
                  <a:pt x="10763" y="9685"/>
                  <a:pt x="10749" y="9758"/>
                  <a:pt x="10749" y="9790"/>
                </a:cubicBezTo>
                <a:cubicBezTo>
                  <a:pt x="10699" y="9807"/>
                  <a:pt x="10716" y="9830"/>
                  <a:pt x="10716" y="9889"/>
                </a:cubicBezTo>
                <a:cubicBezTo>
                  <a:pt x="10782" y="9889"/>
                  <a:pt x="10848" y="9889"/>
                  <a:pt x="10914" y="9889"/>
                </a:cubicBezTo>
              </a:path>
              <a:path w="2118" h="828">
                <a:moveTo>
                  <a:pt x="11079" y="9657"/>
                </a:moveTo>
                <a:cubicBezTo>
                  <a:pt x="11079" y="9624"/>
                  <a:pt x="11079" y="9613"/>
                  <a:pt x="11079" y="9591"/>
                </a:cubicBezTo>
                <a:cubicBezTo>
                  <a:pt x="11079" y="9674"/>
                  <a:pt x="11073" y="9722"/>
                  <a:pt x="11046" y="9790"/>
                </a:cubicBezTo>
                <a:cubicBezTo>
                  <a:pt x="11012" y="9874"/>
                  <a:pt x="10999" y="9990"/>
                  <a:pt x="10947" y="10054"/>
                </a:cubicBezTo>
                <a:cubicBezTo>
                  <a:pt x="10919" y="10089"/>
                  <a:pt x="10914" y="10180"/>
                  <a:pt x="10914" y="10120"/>
                </a:cubicBezTo>
                <a:cubicBezTo>
                  <a:pt x="10914" y="10087"/>
                  <a:pt x="10914" y="10076"/>
                  <a:pt x="10914" y="10054"/>
                </a:cubicBezTo>
              </a:path>
              <a:path w="2118" h="828">
                <a:moveTo>
                  <a:pt x="11179" y="9790"/>
                </a:moveTo>
                <a:cubicBezTo>
                  <a:pt x="11223" y="9790"/>
                  <a:pt x="11267" y="9790"/>
                  <a:pt x="11311" y="9790"/>
                </a:cubicBezTo>
                <a:cubicBezTo>
                  <a:pt x="11300" y="9832"/>
                  <a:pt x="11260" y="9901"/>
                  <a:pt x="11212" y="9922"/>
                </a:cubicBezTo>
                <a:cubicBezTo>
                  <a:pt x="11175" y="9938"/>
                  <a:pt x="11169" y="9977"/>
                  <a:pt x="11146" y="9988"/>
                </a:cubicBezTo>
                <a:cubicBezTo>
                  <a:pt x="11091" y="10016"/>
                  <a:pt x="11171" y="9988"/>
                  <a:pt x="11212" y="9988"/>
                </a:cubicBezTo>
                <a:cubicBezTo>
                  <a:pt x="11256" y="9988"/>
                  <a:pt x="11300" y="9988"/>
                  <a:pt x="11344" y="9988"/>
                </a:cubicBezTo>
                <a:cubicBezTo>
                  <a:pt x="11344" y="10043"/>
                  <a:pt x="11344" y="10098"/>
                  <a:pt x="11344" y="10153"/>
                </a:cubicBezTo>
                <a:cubicBezTo>
                  <a:pt x="11270" y="10153"/>
                  <a:pt x="11245" y="10170"/>
                  <a:pt x="11212" y="10186"/>
                </a:cubicBezTo>
                <a:cubicBezTo>
                  <a:pt x="11193" y="10196"/>
                  <a:pt x="11135" y="10186"/>
                  <a:pt x="11113" y="1018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Ink 7"/>
          <p:cNvSpPr/>
          <p:nvPr/>
        </p:nvSpPr>
        <p:spPr>
          <a:xfrm>
            <a:off x="5799240" y="2523960"/>
            <a:ext cx="142920" cy="131760"/>
          </a:xfrm>
          <a:custGeom>
            <a:avLst/>
            <a:gdLst/>
            <a:ahLst/>
            <a:rect l="l" t="t" r="r" b="b"/>
            <a:pathLst>
              <a:path w="397" h="365">
                <a:moveTo>
                  <a:pt x="16371" y="7011"/>
                </a:moveTo>
                <a:cubicBezTo>
                  <a:pt x="16301" y="7011"/>
                  <a:pt x="16301" y="7030"/>
                  <a:pt x="16272" y="7045"/>
                </a:cubicBezTo>
                <a:cubicBezTo>
                  <a:pt x="16249" y="7057"/>
                  <a:pt x="16193" y="7072"/>
                  <a:pt x="16173" y="7111"/>
                </a:cubicBezTo>
                <a:cubicBezTo>
                  <a:pt x="16147" y="7163"/>
                  <a:pt x="16133" y="7158"/>
                  <a:pt x="16107" y="7210"/>
                </a:cubicBezTo>
                <a:cubicBezTo>
                  <a:pt x="16088" y="7247"/>
                  <a:pt x="16102" y="7356"/>
                  <a:pt x="16140" y="7375"/>
                </a:cubicBezTo>
                <a:cubicBezTo>
                  <a:pt x="16220" y="7415"/>
                  <a:pt x="16403" y="7359"/>
                  <a:pt x="16437" y="7342"/>
                </a:cubicBezTo>
                <a:cubicBezTo>
                  <a:pt x="16497" y="7312"/>
                  <a:pt x="16503" y="7368"/>
                  <a:pt x="16503" y="7276"/>
                </a:cubicBezTo>
                <a:cubicBezTo>
                  <a:pt x="16503" y="7232"/>
                  <a:pt x="16503" y="7188"/>
                  <a:pt x="16503" y="7144"/>
                </a:cubicBezTo>
                <a:cubicBezTo>
                  <a:pt x="16410" y="7144"/>
                  <a:pt x="16349" y="7137"/>
                  <a:pt x="16272" y="7111"/>
                </a:cubicBezTo>
                <a:cubicBezTo>
                  <a:pt x="16223" y="7095"/>
                  <a:pt x="16197" y="7078"/>
                  <a:pt x="16140" y="707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Ink 8"/>
          <p:cNvSpPr/>
          <p:nvPr/>
        </p:nvSpPr>
        <p:spPr>
          <a:xfrm>
            <a:off x="6262560" y="2452680"/>
            <a:ext cx="417600" cy="380880"/>
          </a:xfrm>
          <a:custGeom>
            <a:avLst/>
            <a:gdLst/>
            <a:ahLst/>
            <a:rect l="l" t="t" r="r" b="b"/>
            <a:pathLst>
              <a:path w="1159" h="1059">
                <a:moveTo>
                  <a:pt x="18355" y="6879"/>
                </a:moveTo>
                <a:cubicBezTo>
                  <a:pt x="18290" y="6870"/>
                  <a:pt x="18301" y="6870"/>
                  <a:pt x="18256" y="6846"/>
                </a:cubicBezTo>
                <a:cubicBezTo>
                  <a:pt x="18204" y="6818"/>
                  <a:pt x="18156" y="6816"/>
                  <a:pt x="18091" y="6813"/>
                </a:cubicBezTo>
                <a:cubicBezTo>
                  <a:pt x="17977" y="6807"/>
                  <a:pt x="17779" y="6778"/>
                  <a:pt x="17694" y="6846"/>
                </a:cubicBezTo>
                <a:cubicBezTo>
                  <a:pt x="17674" y="6862"/>
                  <a:pt x="17643" y="6902"/>
                  <a:pt x="17628" y="6912"/>
                </a:cubicBezTo>
                <a:cubicBezTo>
                  <a:pt x="17544" y="6966"/>
                  <a:pt x="17575" y="6975"/>
                  <a:pt x="17529" y="7045"/>
                </a:cubicBezTo>
                <a:cubicBezTo>
                  <a:pt x="17488" y="7107"/>
                  <a:pt x="17463" y="7184"/>
                  <a:pt x="17429" y="7243"/>
                </a:cubicBezTo>
                <a:cubicBezTo>
                  <a:pt x="17397" y="7299"/>
                  <a:pt x="17400" y="7307"/>
                  <a:pt x="17396" y="7375"/>
                </a:cubicBezTo>
                <a:cubicBezTo>
                  <a:pt x="17391" y="7457"/>
                  <a:pt x="17406" y="7502"/>
                  <a:pt x="17429" y="7541"/>
                </a:cubicBezTo>
                <a:cubicBezTo>
                  <a:pt x="17479" y="7627"/>
                  <a:pt x="17500" y="7617"/>
                  <a:pt x="17562" y="7673"/>
                </a:cubicBezTo>
                <a:cubicBezTo>
                  <a:pt x="17623" y="7728"/>
                  <a:pt x="17661" y="7737"/>
                  <a:pt x="17727" y="7772"/>
                </a:cubicBezTo>
                <a:cubicBezTo>
                  <a:pt x="17740" y="7779"/>
                  <a:pt x="17823" y="7816"/>
                  <a:pt x="17859" y="7838"/>
                </a:cubicBezTo>
                <a:cubicBezTo>
                  <a:pt x="17913" y="7871"/>
                  <a:pt x="17925" y="7871"/>
                  <a:pt x="17992" y="7871"/>
                </a:cubicBezTo>
                <a:cubicBezTo>
                  <a:pt x="18121" y="7871"/>
                  <a:pt x="18243" y="7868"/>
                  <a:pt x="18355" y="7838"/>
                </a:cubicBezTo>
                <a:cubicBezTo>
                  <a:pt x="18360" y="7837"/>
                  <a:pt x="18451" y="7750"/>
                  <a:pt x="18455" y="7739"/>
                </a:cubicBezTo>
                <a:cubicBezTo>
                  <a:pt x="18478" y="7682"/>
                  <a:pt x="18485" y="7639"/>
                  <a:pt x="18521" y="7574"/>
                </a:cubicBezTo>
                <a:cubicBezTo>
                  <a:pt x="18546" y="7529"/>
                  <a:pt x="18580" y="7470"/>
                  <a:pt x="18554" y="7408"/>
                </a:cubicBezTo>
                <a:cubicBezTo>
                  <a:pt x="18543" y="7382"/>
                  <a:pt x="18491" y="7351"/>
                  <a:pt x="18488" y="7342"/>
                </a:cubicBezTo>
                <a:cubicBezTo>
                  <a:pt x="18472" y="7285"/>
                  <a:pt x="18485" y="7280"/>
                  <a:pt x="18455" y="7243"/>
                </a:cubicBezTo>
                <a:cubicBezTo>
                  <a:pt x="18407" y="7183"/>
                  <a:pt x="18424" y="7202"/>
                  <a:pt x="18389" y="7144"/>
                </a:cubicBezTo>
                <a:cubicBezTo>
                  <a:pt x="18378" y="7133"/>
                  <a:pt x="18366" y="7122"/>
                  <a:pt x="18355" y="7111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rcRect l="15676" t="41875" r="17274" b="16329"/>
          <a:stretch/>
        </p:blipFill>
        <p:spPr>
          <a:xfrm>
            <a:off x="0" y="609480"/>
            <a:ext cx="6681960" cy="3124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2"/>
          <a:srcRect l="8201" t="23297" r="10815" b="31422"/>
          <a:stretch/>
        </p:blipFill>
        <p:spPr>
          <a:xfrm>
            <a:off x="0" y="5181480"/>
            <a:ext cx="70866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5:19:20Z</dcterms:created>
  <dc:creator>sraja</dc:creator>
  <dc:description/>
  <dc:language>en-US</dc:language>
  <cp:lastModifiedBy>sraja</cp:lastModifiedBy>
  <dcterms:modified xsi:type="dcterms:W3CDTF">2011-03-16T16:05:37Z</dcterms:modified>
  <cp:revision>3</cp:revision>
  <dc:subject/>
  <dc:title>Chapter 7  Section 2: Properties of Rational Exponents</dc:title>
</cp:coreProperties>
</file>